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DB1A-41A5-4E63-B670-497F4881B0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DBEF-9772-4B0C-BD9B-4EBCFFC8D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676-E0B5-424F-825D-2065E956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4262-0F6F-4E6C-A0EA-E1F34850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1C4-10B8-4282-9D5B-9422489EE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61AA-6D0B-4BBE-A085-56786B51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E2A7-F2C5-4DC7-A0D8-E69CCA76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11F5-1511-4B1E-9552-E0F259FB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E9DA-2134-46D4-833A-1C75BA229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5130-CFDF-40BF-90C0-54FC8A20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F910-AE2E-4111-8088-5710F7A6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7B5B-61BC-4B82-AFCF-040D2FC8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70CE-BA2B-4EA9-A7CC-1F7C1569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7CEB-4077-4420-979D-6AF237D3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61FA-87AC-4AA7-918F-1BEE41B5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30B2-D5CB-46A5-B17F-CB1209F1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DAD7-1DBA-4104-9E2F-C562444F1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61B7-544F-443D-8B1B-60AC35960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CD28-B73F-4204-99FF-A282633F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A15-1624-4881-9F74-09169F04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7F40-A4B6-4499-A9BC-0EFDDA8E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B5C-D6EC-491E-A261-F5628511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49C-5BD2-4174-BC02-1534F52B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and Cover Pages Blue-to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962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The </a:t>
            </a:r>
            <a:r>
              <a:rPr b="1" i="1" lang="en-US" sz="4000" spc="-1" strike="noStrike">
                <a:solidFill>
                  <a:srgbClr val="ffffff"/>
                </a:solidFill>
                <a:latin typeface="Franklin Gothic Book"/>
              </a:rPr>
              <a:t>Personal Health Information Act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201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8. Collection &amp; Us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llect only as much information as needed for the purpose of the coll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llect directly from the person who is the subject of the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nly use personal health information for the purpose for which it was coll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9.  Disclosur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 occur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th an individual’s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ere PHIA specifically authorizes a disclosure of the information without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e minimum amount of PHI necessary to achieve purpose of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0. Access &amp; Correc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n individual has the right to access their personal health information with some ex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identifies the process and tim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identifies the responsibilities of custodians respecting access &amp; correction of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1. Protec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dians establish policies and procedures to protect the personal health information in their custody or contro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dians must take steps that are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reasonable in the circumstanc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to ensure that personal health information is protec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2. Privacy Breach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eople who violate the terms of the 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y be fined $10,000 fin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y face six (6) months in prison where a person willfully (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 intentionally) contravenes a provision of PHI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3. Other Provisio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ffice of the Information and Privacy Commissioner (powers, responsibilities, &amp; accountabil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egislativ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ivil liability (“good fait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mpliance ess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4. Discus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are your expectations with the new A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ere do you think will be the greatest effects from this new legisl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f you have questions or concerns, how might you address the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5. Conclu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egislation lays the foundation and mandates poli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rganizations develop policy to guide employees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dians combine privacy principles with bes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mployees support culture of privacy and protection of PH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6. Scenario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7. Conclu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tart now on creating a culture of privacy in you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nderstand your role and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 available resources and tools to achieve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Assessm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do you know about priv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 you give an example of a privacy brea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are some concerns or fears about priv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8. Reflec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Head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is the most important thing you learned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Heart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do you feel about what you learned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Hands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will you share with your coworkers about your experience here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Feet: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have you learned that you can put into practice right a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19. Contact Informa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r more information about PHIA, please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r employer or supervi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r profession’s regulatory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r legal coun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Franklin Gothic Book"/>
              </a:rPr>
              <a:t>1. Agend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oles &amp;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Obtaining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llecting &amp; using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isclosing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ccess &amp; correction of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urity of personal health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Other provisions in the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Franklin Gothic Book"/>
              </a:rPr>
              <a:t>2.  A New Approach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PHIA is a new way of thinking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HIA is concerned with the protection of personal health information (PHI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HIA applies to custodians involved in the delivery of health care services in bo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sectors in Newfoundland and Labrad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We all have a responsibility to understand the importance of keeping certain information confidentia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Franklin Gothic Book"/>
              </a:rPr>
              <a:t>3.  Why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o create a culture of privacy that suppor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4.  What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HIA provides rules for the collection, use and disclosure of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personal health inform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ersonal health information is identifiable information about physical and mental health, family history, organ donation, insurance coverage, and pr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t can be in either oral or recorded f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5.  Roles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Custodi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Information mana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Recipient of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Employ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355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6.  Responsibiliti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pect the organization’s oath of confidenti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nderstand how the organization’s information policies are implem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upport the creation of a culture of privacy in the organ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articipate in education about privacy and protection of person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7. Obtaining Cons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Implied consent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etween healthcare providers treating a patient (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 the “circle of car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Express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ertain specific disclosures are permitted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without consent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 for authorized health research, where ethics approval is obtain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bility of patients to provide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limited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43:07Z</dcterms:created>
  <dc:creator>User</dc:creator>
  <dc:description/>
  <dc:language>en-US</dc:language>
  <cp:lastModifiedBy>Wendy and Brian</cp:lastModifiedBy>
  <cp:lastPrinted>2010-09-03T17:05:45Z</cp:lastPrinted>
  <dcterms:modified xsi:type="dcterms:W3CDTF">2010-09-11T21:17:27Z</dcterms:modified>
  <cp:revision>78</cp:revision>
  <dc:subject/>
  <dc:title> PHIA: The Personal Health Information Act  November, 2009</dc:title>
</cp:coreProperties>
</file>